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F229-1C9F-4312-AFDC-B0E3AD46F4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3562-FACC-4753-8541-24C89924AF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C6D6-C512-43FC-85A6-FC9F7ACD6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20C0-DCCE-4A84-9A5E-DF54B352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9AC2-5B21-4898-A5B4-15B81F0F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DB64-FF98-4FC9-B57F-C8BFA3EA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3157-75CB-4411-8FDC-C4D7DAF5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A683-871A-4468-B04F-7AEE24D6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B91C-5C98-4F82-8CF3-3A0DAB8D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F774-B685-4258-81EB-FE661CB8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7949-4F3F-4A0C-A542-2F76E14D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8037-50ED-47B8-BE1A-309A76F9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BF3E-8B53-4BB0-B0D9-B196441E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3E47-CFC7-4D42-84F9-136AAEA2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5D42-9A20-41E8-B39B-70003EDA2B9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edvopros.com/img/494B.jpg" TargetMode="External"/><Relationship Id="rId2" Type="http://schemas.openxmlformats.org/officeDocument/2006/relationships/image" Target="../media/image5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slide" Target="slide17.xml"/><Relationship Id="rId6" Type="http://schemas.openxmlformats.org/officeDocument/2006/relationships/slide" Target="slide20.xm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5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18.xml"/><Relationship Id="rId15" Type="http://schemas.openxmlformats.org/officeDocument/2006/relationships/slide" Target="slide19.xml"/><Relationship Id="rId16" Type="http://schemas.openxmlformats.org/officeDocument/2006/relationships/slide" Target="slide20.xml"/><Relationship Id="rId17" Type="http://schemas.openxmlformats.org/officeDocument/2006/relationships/slide" Target="slide21.xml"/><Relationship Id="rId1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9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0.xml"/><Relationship Id="rId10" Type="http://schemas.openxmlformats.org/officeDocument/2006/relationships/slide" Target="slide10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2.xml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hildren.claw.ru/6_man/CONTENT/skanfoto40/002.jpg" TargetMode="Externa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oddandeven.narod.ru/Nauka_o_boli/p/10_072.png" TargetMode="External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1904760"/>
            <a:ext cx="7086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Речевая систем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Черепно-мозговые нер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33520" y="1066320"/>
            <a:ext cx="80769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Times New Roman"/>
              </a:rPr>
              <a:t>В ядрах ствола берут начало черепно-мозговые нервы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Times New Roman"/>
              </a:rPr>
              <a:t>Иннервацию периферического речевого аппарата осуществляют 6 черепно-мозговых нервов (ЧМН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Times New Roman"/>
              </a:rPr>
              <a:t>Тройничный нерв </a:t>
            </a:r>
            <a:r>
              <a:rPr b="0" lang="en-US" sz="2200" spc="-1" strike="noStrike">
                <a:solidFill>
                  <a:srgbClr val="898989"/>
                </a:solidFill>
                <a:latin typeface="Times New Roman"/>
              </a:rPr>
              <a:t>- V </a:t>
            </a:r>
            <a:r>
              <a:rPr b="0" lang="ru-RU" sz="2200" spc="-1" strike="noStrike">
                <a:solidFill>
                  <a:srgbClr val="898989"/>
                </a:solidFill>
                <a:latin typeface="Times New Roman"/>
              </a:rPr>
              <a:t>пара (смешанный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Times New Roman"/>
              </a:rPr>
              <a:t>Лицевой нерв</a:t>
            </a:r>
            <a:r>
              <a:rPr b="0" lang="en-US" sz="2200" spc="-1" strike="noStrike">
                <a:solidFill>
                  <a:srgbClr val="898989"/>
                </a:solidFill>
                <a:latin typeface="Times New Roman"/>
              </a:rPr>
              <a:t> - VII </a:t>
            </a:r>
            <a:r>
              <a:rPr b="0" lang="ru-RU" sz="2200" spc="-1" strike="noStrike">
                <a:solidFill>
                  <a:srgbClr val="898989"/>
                </a:solidFill>
                <a:latin typeface="Times New Roman"/>
              </a:rPr>
              <a:t>пара (двигательный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Times New Roman"/>
              </a:rPr>
              <a:t>Языкоглоточный нерв</a:t>
            </a:r>
            <a:r>
              <a:rPr b="0" lang="en-US" sz="2200" spc="-1" strike="noStrike">
                <a:solidFill>
                  <a:srgbClr val="898989"/>
                </a:solidFill>
                <a:latin typeface="Times New Roman"/>
              </a:rPr>
              <a:t> - IX </a:t>
            </a:r>
            <a:r>
              <a:rPr b="0" lang="ru-RU" sz="2200" spc="-1" strike="noStrike">
                <a:solidFill>
                  <a:srgbClr val="898989"/>
                </a:solidFill>
                <a:latin typeface="Times New Roman"/>
              </a:rPr>
              <a:t>пара (смешанный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Times New Roman"/>
              </a:rPr>
              <a:t>Блуждающий нерв</a:t>
            </a:r>
            <a:r>
              <a:rPr b="0" lang="en-US" sz="2200" spc="-1" strike="noStrike">
                <a:solidFill>
                  <a:srgbClr val="898989"/>
                </a:solidFill>
                <a:latin typeface="Times New Roman"/>
              </a:rPr>
              <a:t> – X </a:t>
            </a:r>
            <a:r>
              <a:rPr b="0" lang="ru-RU" sz="2200" spc="-1" strike="noStrike">
                <a:solidFill>
                  <a:srgbClr val="898989"/>
                </a:solidFill>
                <a:latin typeface="Times New Roman"/>
              </a:rPr>
              <a:t>пара (смешанный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Times New Roman"/>
              </a:rPr>
              <a:t>Добавочный нерв - </a:t>
            </a:r>
            <a:r>
              <a:rPr b="0" lang="en-US" sz="2200" spc="-1" strike="noStrike">
                <a:solidFill>
                  <a:srgbClr val="898989"/>
                </a:solidFill>
                <a:latin typeface="Times New Roman"/>
              </a:rPr>
              <a:t>XI </a:t>
            </a:r>
            <a:r>
              <a:rPr b="0" lang="ru-RU" sz="2200" spc="-1" strike="noStrike">
                <a:solidFill>
                  <a:srgbClr val="898989"/>
                </a:solidFill>
                <a:latin typeface="Times New Roman"/>
              </a:rPr>
              <a:t>пара (двигательный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Times New Roman"/>
              </a:rPr>
              <a:t>Подъязычный нерв</a:t>
            </a:r>
            <a:r>
              <a:rPr b="0" lang="en-US" sz="2200" spc="-1" strike="noStrike">
                <a:solidFill>
                  <a:srgbClr val="898989"/>
                </a:solidFill>
                <a:latin typeface="Times New Roman"/>
              </a:rPr>
              <a:t> - XII </a:t>
            </a:r>
            <a:r>
              <a:rPr b="0" lang="ru-RU" sz="2200" spc="-1" strike="noStrike">
                <a:solidFill>
                  <a:srgbClr val="898989"/>
                </a:solidFill>
                <a:latin typeface="Times New Roman"/>
              </a:rPr>
              <a:t>пара (двигательный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Times New Roman"/>
              </a:rPr>
              <a:t>Через систему ЧМН происходит передача нервных импульсов от центра к периферии. Нервные импульсы приводят в движение речевые органы. Они иннервируют мышцы, приводящие в движение нижнюю челюсть, мимическую мускулатуру, мышцы гортани и голосовых складок, глотки и мягкого неба, а  также мышцы шеи, мышцы язы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Times New Roman"/>
              </a:rPr>
              <a:t>Через эту систему черепно-мозговых нервов передаются нервные импульсы от центрального речевого аппарата к периферическому и наоборо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AutoShape 5">
            <a:hlinkClick r:id="rId1" action="ppaction://hlinksldjump"/>
          </p:cNvPr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ериферический речевой аппар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Периферический речевой аппарат состоит из трех отдел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hlinkClick r:id="rId1" action="ppaction://hlinksldjump"/>
              </a:rPr>
              <a:t>Дыхатель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Голосов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Артикуляционного</a:t>
            </a:r>
            <a:r>
              <a:rPr b="0" lang="ru-RU" sz="3200" spc="-1" strike="noStrike">
                <a:solidFill>
                  <a:srgbClr val="89898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AutoShape 5">
            <a:hlinkClick r:id="rId4" action="ppaction://hlinksldjump"/>
          </p:cNvPr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ыхательный отде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2" descr="Действие на дыхательную систему"/>
          <p:cNvPicPr/>
          <p:nvPr/>
        </p:nvPicPr>
        <p:blipFill>
          <a:blip r:embed="rId1"/>
          <a:stretch/>
        </p:blipFill>
        <p:spPr>
          <a:xfrm>
            <a:off x="228600" y="4224240"/>
            <a:ext cx="1676520" cy="2430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руктура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грудная клетка с легкими, бронхами и трахе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чевое произношение  тесно связано с дыханием; речь образуется в фазу выдоха. При выдохе воздушная струя осуществляет две функции: голосообразующую и артикуляционную, кроме основной – газообмена. В момент речи дыхание изменяется: выдох намного длиннее вдоха; число дыхательных движений вдвое меньше. Происходит больший забор воздуха, увеличивается объем вдыхаемого и выдыхаемого воздуха (примерно в 3 раза). Вдох при речи становится коротким и глубоким; выдох осуществляется при активном участии выдыхательных мышц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я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еспечивается давление выдыхаем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душной стру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AutoShape 14"/>
          <p:cNvSpPr/>
          <p:nvPr/>
        </p:nvSpPr>
        <p:spPr>
          <a:xfrm>
            <a:off x="3200400" y="5334120"/>
            <a:ext cx="2057400" cy="57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600" y="0"/>
                </a:moveTo>
                <a:lnTo>
                  <a:pt x="-800" y="4320"/>
                </a:lnTo>
              </a:path>
            </a:pathLst>
          </a:custGeom>
          <a:solidFill>
            <a:srgbClr val="4f81bd"/>
          </a:solidFill>
          <a:ln w="9360">
            <a:solidFill>
              <a:srgbClr val="e1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ронхиальное дере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6" descr="16"/>
          <p:cNvPicPr/>
          <p:nvPr/>
        </p:nvPicPr>
        <p:blipFill>
          <a:blip r:embed="rId2"/>
          <a:stretch/>
        </p:blipFill>
        <p:spPr>
          <a:xfrm>
            <a:off x="6858000" y="3581280"/>
            <a:ext cx="2089080" cy="30862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17"/>
          <p:cNvSpPr/>
          <p:nvPr/>
        </p:nvSpPr>
        <p:spPr>
          <a:xfrm>
            <a:off x="3200400" y="5334120"/>
            <a:ext cx="2057400" cy="57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9750" y="-33600"/>
                </a:moveTo>
                <a:lnTo>
                  <a:pt x="-800" y="4320"/>
                </a:lnTo>
              </a:path>
            </a:pathLst>
          </a:custGeom>
          <a:solidFill>
            <a:srgbClr val="4f81bd"/>
          </a:solidFill>
          <a:ln w="9360">
            <a:solidFill>
              <a:srgbClr val="e1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рахеобронхиальное дере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20"/>
          <p:cNvSpPr/>
          <p:nvPr/>
        </p:nvSpPr>
        <p:spPr>
          <a:xfrm>
            <a:off x="3276720" y="6324480"/>
            <a:ext cx="1523880" cy="34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3480" y="-36000"/>
                </a:moveTo>
                <a:lnTo>
                  <a:pt x="-1080" y="7200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егко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21"/>
          <p:cNvSpPr/>
          <p:nvPr/>
        </p:nvSpPr>
        <p:spPr>
          <a:xfrm>
            <a:off x="4191120" y="4572000"/>
            <a:ext cx="1828800" cy="43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6900" y="46957"/>
                </a:moveTo>
                <a:lnTo>
                  <a:pt x="22500" y="5635"/>
                </a:lnTo>
              </a:path>
            </a:pathLst>
          </a:custGeom>
          <a:solidFill>
            <a:srgbClr val="4f81bd"/>
          </a:solidFill>
          <a:ln w="9360">
            <a:solidFill>
              <a:srgbClr val="ffb9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рудная клет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22">
            <a:hlinkClick r:id="rId3" action="ppaction://hlinksldjump"/>
          </p:cNvPr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Голосовой отде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10" descr="Картинка 127 из 8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371600"/>
            <a:ext cx="3774960" cy="45910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14440" y="106632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оит из гортани с находящимися в ней голосовыми складками. Гортань представляет собой широкую короткую трубку, состоящую из хрящей и мягких тканей. Снизу она граничит с трахеей, сверху – с глоткой. На границе гортани и глотки находится надгортанник, имеющий форму лепестка и состоящий из хряща. Голосовые складки заполняют просвет гортани, оставляя небольшую голосовую щель. В процессе дыхания голосовая щель открыта, и имеет форму равнобедренного треугольника. Во время речи голосовые складки сомкну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380880" y="4610160"/>
            <a:ext cx="10670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0114" y="-31050"/>
                </a:moveTo>
                <a:lnTo>
                  <a:pt x="23143" y="4000"/>
                </a:lnTo>
              </a:path>
            </a:pathLst>
          </a:custGeom>
          <a:solidFill>
            <a:srgbClr val="4f81bd"/>
          </a:solidFill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рта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12">
            <a:hlinkClick r:id="rId3" action="ppaction://hlinksldjump"/>
          </p:cNvPr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ртикуляционный отде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98989"/>
                </a:solidFill>
                <a:latin typeface="Times New Roman"/>
              </a:rPr>
              <a:t>Структура артикуляционного отдела речевой системы:</a:t>
            </a: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hlinkClick r:id="rId1" action="ppaction://hlinksldjump"/>
              </a:rPr>
              <a:t>язык</a:t>
            </a: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,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губы</a:t>
            </a: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,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зубы</a:t>
            </a: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,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hlinkClick r:id="rId4" action="ppaction://hlinksldjump"/>
              </a:rPr>
              <a:t>челюсти</a:t>
            </a: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, альвеолы, мягкое и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hlinkClick r:id="rId5" action="ppaction://hlinksldjump"/>
              </a:rPr>
              <a:t>твердое небо</a:t>
            </a: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,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hlinkClick r:id="rId6" action="ppaction://hlinksldjump"/>
              </a:rPr>
              <a:t>надставная труба</a:t>
            </a: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Подвижными органами артикуляции являютс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Times New Roman"/>
              </a:rPr>
              <a:t>Язы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Times New Roman"/>
              </a:rPr>
              <a:t>Мягкое неб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Times New Roman"/>
              </a:rPr>
              <a:t>Губ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Times New Roman"/>
              </a:rPr>
              <a:t>Нижняя челю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Язык -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лавный орган артикуляции. Это мышечный орган, передняя часть его подвижна, задняя - закреплена и является корнем языка. В подвижной части языка различают кончик, передний край или лезвие, боковые края и спинку. Сложность и переплетенность мышц языка обеспечивает возможность быстро изменять форму, положение и напряженность мышц языка. Это необходимо, т. к. язык участвует в образовании всех гласных и почти всех согласных кроме губны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3444840" y="3581280"/>
            <a:ext cx="2408400" cy="270216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7"/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Губ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32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убы представляют собой очень подвижное мышечное образование. Мышцы обеспечивают подвижность губ при движении в разном направлении. Губы покрыты слизистой оболочкой с внутренней поверхности, а снаружи покрыты эпидермисом. Круговая мышца рта обильно кровоснабжена и поэтому имеет более яркий цве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убы являются специальным затвором определенной группы звуков, губы активно участвуют в артикуляции многих звуков, которым соответствует тот или иной уклад языка. Но и очертания губ тоже обеспечивают артикуляцию. Губы способствуют изменению размера и формы преддверия рта и тем самым оказывают влияние на особенности резонанса в ротов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5791320" y="609480"/>
            <a:ext cx="952560" cy="79056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7"/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Твердое небо –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это костная стенка, отделяющая полость рта от носовой полости, является одновременно крышей полости рта и дном носовой полости. В передней (большей) своей части твердое небо образуется небными отростками верхнечелюстных костей, а в заднем отделе – горизонтальными пластинками небных костей. Слизистая оболочка, покрывающая твердое небо, плотно сращена с надкостницей. По средней линии твердого неба виден костный ш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 своей форме твердое небо представляет собой выпуклый кверху свод. Конфигурация небного свода у разных людей значительно варьируе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Мягкое небо 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1920" y="13716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образование, которое служит продолжением твердого неба, образованного костя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ягкое небо представляет собой мышечное образование, покрытое слизистой оболочкой. Задняя часть мягкого неба называется небной занавеской. При расслаблении небных мышц небная занавеска свободно свисает вниз, а при их сокращении поднимается кверху и кзади. В середине небной занавески имеется удлиненный отросток – языч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ягкое небо находится на границе ротовой полости и глотки и служит вторым язычковым затвором. По своей структуре мягкое небо представляет собой эластичную мышечную пластинку, которая очень подвижна и при определенных условиях может закрывать вход в носоглотку, поднимаясь кверху и кзади и открывая ее. Эти движения регулируют величину и направление воздушного потока из гортани, направляя этот поток либо через носовую полость, либо через ротовую полость, при этом голос звучит по-разном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Челюсти и зуб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6" descr="Зубы - строение, описание, вотографии. МедКабинет - Анатомия человека :: Зубы"/>
          <p:cNvPicPr/>
          <p:nvPr/>
        </p:nvPicPr>
        <p:blipFill>
          <a:blip r:embed="rId1"/>
          <a:stretch/>
        </p:blipFill>
        <p:spPr>
          <a:xfrm>
            <a:off x="685800" y="1600200"/>
            <a:ext cx="3726000" cy="453060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8"/>
          <p:cNvSpPr/>
          <p:nvPr/>
        </p:nvSpPr>
        <p:spPr>
          <a:xfrm>
            <a:off x="5105520" y="5753160"/>
            <a:ext cx="19810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9108" y="-28350"/>
                </a:moveTo>
                <a:lnTo>
                  <a:pt x="-831" y="4000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ижняя челю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5029200" y="5029200"/>
            <a:ext cx="914400" cy="41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9600" y="-35345"/>
                </a:moveTo>
                <a:lnTo>
                  <a:pt x="-1800" y="5891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уб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4952880" y="4076640"/>
            <a:ext cx="213372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971" y="-1350"/>
                </a:moveTo>
                <a:lnTo>
                  <a:pt x="-771" y="4000"/>
                </a:lnTo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рхняя челю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1" action="ppaction://hlinksldjump"/>
              </a:rPr>
              <a:t>Схема речевой сист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Кора больших полушар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Подкорковые цент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4" action="ppaction://hlinksldjump"/>
              </a:rPr>
              <a:t>Проводящие пу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5" action="ppaction://hlinksldjump"/>
              </a:rPr>
              <a:t>Продолговатый моз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6" action="ppaction://hlinksldjump"/>
              </a:rPr>
              <a:t>Черепно-мозговые нерв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7" action="ppaction://hlinksldjump"/>
              </a:rPr>
              <a:t>Периферический речевой аппар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8" action="ppaction://hlinksldjump"/>
              </a:rPr>
              <a:t>Дыхательный отде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9" action="ppaction://hlinksldjump"/>
              </a:rPr>
              <a:t>Голосовой отде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10" action="ppaction://hlinksldjump"/>
              </a:rPr>
              <a:t>Артикуляционный отде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11" action="ppaction://hlinksldjump"/>
              </a:rPr>
              <a:t>язы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12" action="ppaction://hlinksldjump"/>
              </a:rPr>
              <a:t>губ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13" action="ppaction://hlinksldjump"/>
              </a:rPr>
              <a:t>твердое неб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14" action="ppaction://hlinksldjump"/>
              </a:rPr>
              <a:t>мягкое неб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15" action="ppaction://hlinksldjump"/>
              </a:rPr>
              <a:t>челюсти и зуб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16" action="ppaction://hlinksldjump"/>
              </a:rPr>
              <a:t>надставная труб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hlinkClick r:id="rId17" action="ppaction://hlinksldjump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адставная труба -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уктуры, расположенные выше гортани: полость глотки, ротовая полость и носовая полость. Глотка и рот образуют общую структуру, входящую в структуру надставной трубы. Она выполняет важную функцию резонатор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дставная труб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лагодаря своему строению может меняться по объему и форме. Эти изменения надставной трубы имеют большое значение для образования звуков речи. Они создают явление резонанса. В результате резонанса одни обертоны речевых звуков усиливаются, другие – заглушаются. Возникает специфический речевой тембр звуков. Надставная труба при образовании звуков речи выполняет двоякую функцию: резонатора и шумового вибратора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Шумовым вибратором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вляются щели между губами, между языком и альвеолами, между губами и зубами, а такж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рываемые струей воздуха смычки меж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ими органами. При помощи шумового вибрато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зуются глухие согласны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одновременном включени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вуков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ибратор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колебании голосовых складок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зуются звонкие и сонорные согласны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6" descr="Глотка - строение, описание, вотографии. МедКабинет - Анатомия человека :: Глотка"/>
          <p:cNvPicPr/>
          <p:nvPr/>
        </p:nvPicPr>
        <p:blipFill>
          <a:blip r:embed="rId1"/>
          <a:stretch/>
        </p:blipFill>
        <p:spPr>
          <a:xfrm>
            <a:off x="6400800" y="4191120"/>
            <a:ext cx="1800360" cy="218916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7"/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Литератур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80520" y="10663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«Физиология человека» Е.Б. Бабский, А.А. Зубков, Г.И. Косицкий, Б.И. Ходоров изд. Медицина 1966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«Анатомия» А.С. Гусев, Ю.П. Сергеев изд. Медицина 1970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Times New Roman"/>
              </a:rPr>
              <a:t>http://medkabinet.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Times New Roman"/>
              </a:rPr>
              <a:t>http</a:t>
            </a: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://</a:t>
            </a:r>
            <a:r>
              <a:rPr b="0" lang="en-US" sz="2000" spc="-1" strike="noStrike">
                <a:solidFill>
                  <a:srgbClr val="898989"/>
                </a:solidFill>
                <a:latin typeface="Times New Roman"/>
              </a:rPr>
              <a:t>referat</a:t>
            </a: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898989"/>
                </a:solidFill>
                <a:latin typeface="Times New Roman"/>
              </a:rPr>
              <a:t>base</a:t>
            </a: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898989"/>
                </a:solidFill>
                <a:latin typeface="Times New Roman"/>
              </a:rPr>
              <a:t>ru</a:t>
            </a: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898989"/>
                </a:solidFill>
                <a:latin typeface="Times New Roman"/>
              </a:rPr>
              <a:t>base</a:t>
            </a: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/65/26681.</a:t>
            </a:r>
            <a:r>
              <a:rPr b="0" lang="en-US" sz="2000" spc="-1" strike="noStrike">
                <a:solidFill>
                  <a:srgbClr val="898989"/>
                </a:solidFill>
                <a:latin typeface="Times New Roman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http://images.yandex.ru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52120" y="387000"/>
            <a:ext cx="752940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ff"/>
                </a:solidFill>
                <a:latin typeface="Times New Roman"/>
              </a:rPr>
              <a:t>Схема речевой системы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6">
            <a:hlinkClick r:id="rId1" action="ppaction://hlinksldjump"/>
          </p:cNvPr>
          <p:cNvSpPr/>
          <p:nvPr/>
        </p:nvSpPr>
        <p:spPr>
          <a:xfrm>
            <a:off x="228600" y="990720"/>
            <a:ext cx="1066680" cy="152388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1523880"/>
              <a:gd name="textAreaBottom" fmla="*/ 1472040 h 1523880"/>
            </a:gdLst>
            <a:ahLst/>
            <a:rect l="textAreaLeft" t="textAreaTop" r="textAreaRight" b="textAreaBottom"/>
            <a:pathLst>
              <a:path w="21600" h="30855">
                <a:moveTo>
                  <a:pt x="3600" y="0"/>
                </a:moveTo>
                <a:arcTo wR="3600" hR="3600" stAng="16200000" swAng="-5400000"/>
                <a:lnTo>
                  <a:pt x="0" y="27255"/>
                </a:lnTo>
                <a:arcTo wR="3600" hR="3600" stAng="10800000" swAng="-5400000"/>
                <a:lnTo>
                  <a:pt x="18000" y="308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6d1e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Times New Roman"/>
              </a:rPr>
              <a:t>Ко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Times New Roman"/>
              </a:rPr>
              <a:t>больш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Times New Roman"/>
              </a:rPr>
              <a:t>полушар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7">
            <a:hlinkClick r:id="rId2" action="ppaction://hlinksldjump"/>
          </p:cNvPr>
          <p:cNvSpPr/>
          <p:nvPr/>
        </p:nvSpPr>
        <p:spPr>
          <a:xfrm>
            <a:off x="1828800" y="990720"/>
            <a:ext cx="1371600" cy="144756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1447560"/>
              <a:gd name="textAreaBottom" fmla="*/ 1380600 h 1447560"/>
            </a:gdLst>
            <a:ahLst/>
            <a:rect l="textAreaLeft" t="textAreaTop" r="textAreaRight" b="textAreaBottom"/>
            <a:pathLst>
              <a:path w="21600" h="22796">
                <a:moveTo>
                  <a:pt x="3600" y="0"/>
                </a:moveTo>
                <a:arcTo wR="3600" hR="3600" stAng="16200000" swAng="-5400000"/>
                <a:lnTo>
                  <a:pt x="0" y="19196"/>
                </a:lnTo>
                <a:arcTo wR="3600" hR="3600" stAng="10800000" swAng="-5400000"/>
                <a:lnTo>
                  <a:pt x="18000" y="227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6d1e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Times New Roman"/>
              </a:rPr>
              <a:t>Подкорковы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Times New Roman"/>
              </a:rPr>
              <a:t>цент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8">
            <a:hlinkClick r:id="rId3" action="ppaction://hlinksldjump"/>
          </p:cNvPr>
          <p:cNvSpPr/>
          <p:nvPr/>
        </p:nvSpPr>
        <p:spPr>
          <a:xfrm>
            <a:off x="7086600" y="9907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86d1e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Times New Roman"/>
              </a:rPr>
              <a:t>Продолговат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Times New Roman"/>
              </a:rPr>
              <a:t>моз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9">
            <a:hlinkClick r:id="rId4" action="ppaction://hlinksldjump"/>
          </p:cNvPr>
          <p:cNvSpPr/>
          <p:nvPr/>
        </p:nvSpPr>
        <p:spPr>
          <a:xfrm>
            <a:off x="3429000" y="990720"/>
            <a:ext cx="3429000" cy="533160"/>
          </a:xfrm>
          <a:prstGeom prst="rightArrow">
            <a:avLst>
              <a:gd name="adj1" fmla="val 50000"/>
              <a:gd name="adj2" fmla="val 160787"/>
            </a:avLst>
          </a:prstGeom>
          <a:solidFill>
            <a:srgbClr val="86d1e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Times New Roman"/>
              </a:rPr>
              <a:t>Ц е н т р о б е ж н ы 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0">
            <a:hlinkClick r:id="rId5" action="ppaction://hlinksldjump"/>
          </p:cNvPr>
          <p:cNvSpPr/>
          <p:nvPr/>
        </p:nvSpPr>
        <p:spPr>
          <a:xfrm>
            <a:off x="3429000" y="1676520"/>
            <a:ext cx="3429000" cy="609480"/>
          </a:xfrm>
          <a:prstGeom prst="leftArrow">
            <a:avLst>
              <a:gd name="adj1" fmla="val 50000"/>
              <a:gd name="adj2" fmla="val 140653"/>
            </a:avLst>
          </a:prstGeom>
          <a:solidFill>
            <a:srgbClr val="86d1e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Times New Roman"/>
              </a:rPr>
              <a:t>Ц е н т р о с т р е м и т е л ь н ы 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1447920" y="1295280"/>
            <a:ext cx="30456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6d1e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28">
            <a:hlinkClick r:id="rId6" action="ppaction://hlinksldjump"/>
          </p:cNvPr>
          <p:cNvSpPr/>
          <p:nvPr/>
        </p:nvSpPr>
        <p:spPr>
          <a:xfrm>
            <a:off x="5222880" y="2884320"/>
            <a:ext cx="2279520" cy="304920"/>
          </a:xfrm>
          <a:solidFill>
            <a:srgbClr val="86d1e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V</a:t>
            </a:r>
            <a:r>
              <a:rPr b="1" lang="ru-RU" sz="1400" spc="-1" strike="noStrike">
                <a:solidFill>
                  <a:srgbClr val="eeece1"/>
                </a:solidFill>
                <a:latin typeface="Times New Roman"/>
              </a:rPr>
              <a:t> пара – тройничный нер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29">
            <a:hlinkClick r:id="rId7" action="ppaction://hlinksldjump"/>
          </p:cNvPr>
          <p:cNvSpPr/>
          <p:nvPr/>
        </p:nvSpPr>
        <p:spPr>
          <a:xfrm>
            <a:off x="5383080" y="3562200"/>
            <a:ext cx="2133720" cy="311400"/>
          </a:xfrm>
          <a:solidFill>
            <a:srgbClr val="9bd9e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VII</a:t>
            </a:r>
            <a:r>
              <a:rPr b="1" lang="ru-RU" sz="1400" spc="-1" strike="noStrike">
                <a:solidFill>
                  <a:srgbClr val="eeece1"/>
                </a:solidFill>
                <a:latin typeface="Times New Roman"/>
              </a:rPr>
              <a:t> пара – лицевой нер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30">
            <a:hlinkClick r:id="rId8" action="ppaction://hlinksldjump"/>
          </p:cNvPr>
          <p:cNvSpPr/>
          <p:nvPr/>
        </p:nvSpPr>
        <p:spPr>
          <a:xfrm>
            <a:off x="4842000" y="4257720"/>
            <a:ext cx="2666880" cy="333360"/>
          </a:xfrm>
          <a:solidFill>
            <a:srgbClr val="9bd9e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IX</a:t>
            </a:r>
            <a:r>
              <a:rPr b="1" lang="ru-RU" sz="1400" spc="-1" strike="noStrike">
                <a:solidFill>
                  <a:srgbClr val="eeece1"/>
                </a:solidFill>
                <a:latin typeface="Times New Roman"/>
              </a:rPr>
              <a:t> пара – языкоглоточный нер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32">
            <a:hlinkClick r:id="rId9" action="ppaction://hlinksldjump"/>
          </p:cNvPr>
          <p:cNvSpPr/>
          <p:nvPr/>
        </p:nvSpPr>
        <p:spPr>
          <a:xfrm>
            <a:off x="5078520" y="4921200"/>
            <a:ext cx="2438280" cy="309600"/>
          </a:xfrm>
          <a:solidFill>
            <a:srgbClr val="9bd9e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X</a:t>
            </a:r>
            <a:r>
              <a:rPr b="1" lang="ru-RU" sz="1400" spc="-1" strike="noStrike">
                <a:solidFill>
                  <a:srgbClr val="eeece1"/>
                </a:solidFill>
                <a:latin typeface="Times New Roman"/>
              </a:rPr>
              <a:t> пара – блуждающий нер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3">
            <a:hlinkClick r:id="rId10" action="ppaction://hlinksldjump"/>
          </p:cNvPr>
          <p:cNvSpPr/>
          <p:nvPr/>
        </p:nvSpPr>
        <p:spPr>
          <a:xfrm>
            <a:off x="5030640" y="5597640"/>
            <a:ext cx="2514600" cy="328320"/>
          </a:xfrm>
          <a:solidFill>
            <a:srgbClr val="9bd9e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XI</a:t>
            </a:r>
            <a:r>
              <a:rPr b="1" lang="ru-RU" sz="1400" spc="-1" strike="noStrike">
                <a:solidFill>
                  <a:srgbClr val="eeece1"/>
                </a:solidFill>
                <a:latin typeface="Times New Roman"/>
              </a:rPr>
              <a:t> пара – добавочный нер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4">
            <a:hlinkClick r:id="rId11" action="ppaction://hlinksldjump"/>
          </p:cNvPr>
          <p:cNvSpPr/>
          <p:nvPr/>
        </p:nvSpPr>
        <p:spPr>
          <a:xfrm>
            <a:off x="5029200" y="6248520"/>
            <a:ext cx="2514600" cy="304560"/>
          </a:xfrm>
          <a:solidFill>
            <a:srgbClr val="86d1e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XII</a:t>
            </a:r>
            <a:r>
              <a:rPr b="1" lang="ru-RU" sz="1400" spc="-1" strike="noStrike">
                <a:solidFill>
                  <a:srgbClr val="eeece1"/>
                </a:solidFill>
                <a:latin typeface="Times New Roman"/>
              </a:rPr>
              <a:t> пара – подъязычный нер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5"/>
          <p:cNvSpPr/>
          <p:nvPr/>
        </p:nvSpPr>
        <p:spPr>
          <a:xfrm>
            <a:off x="4384800" y="2808360"/>
            <a:ext cx="533160" cy="3809880"/>
          </a:xfrm>
          <a:custGeom>
            <a:avLst/>
            <a:gdLst>
              <a:gd name="textAreaLeft" fmla="*/ 340560 w 533160"/>
              <a:gd name="textAreaRight" fmla="*/ 533520 w 53316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36">
            <a:hlinkClick r:id="rId12" action="ppaction://hlinksldjump"/>
          </p:cNvPr>
          <p:cNvSpPr/>
          <p:nvPr/>
        </p:nvSpPr>
        <p:spPr>
          <a:xfrm>
            <a:off x="2514600" y="4343400"/>
            <a:ext cx="1752480" cy="838080"/>
          </a:xfrm>
          <a:prstGeom prst="roundRect">
            <a:avLst>
              <a:gd name="adj" fmla="val 16667"/>
            </a:avLst>
          </a:prstGeom>
          <a:solidFill>
            <a:srgbClr val="86d1e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Times New Roman"/>
              </a:rPr>
              <a:t>Периферическ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Times New Roman"/>
              </a:rPr>
              <a:t>речевой аппара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37">
            <a:hlinkClick r:id="rId13" action="ppaction://hlinksldjump"/>
          </p:cNvPr>
          <p:cNvSpPr/>
          <p:nvPr/>
        </p:nvSpPr>
        <p:spPr>
          <a:xfrm>
            <a:off x="270000" y="3112920"/>
            <a:ext cx="1600200" cy="762120"/>
          </a:xfrm>
          <a:prstGeom prst="roundRect">
            <a:avLst>
              <a:gd name="adj" fmla="val 16667"/>
            </a:avLst>
          </a:prstGeom>
          <a:solidFill>
            <a:srgbClr val="86d1e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Times New Roman"/>
              </a:rPr>
              <a:t>Дыхательн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38">
            <a:hlinkClick r:id="rId14" action="ppaction://hlinksldjump"/>
          </p:cNvPr>
          <p:cNvSpPr/>
          <p:nvPr/>
        </p:nvSpPr>
        <p:spPr>
          <a:xfrm>
            <a:off x="270000" y="4332240"/>
            <a:ext cx="1600200" cy="838080"/>
          </a:xfrm>
          <a:prstGeom prst="roundRect">
            <a:avLst>
              <a:gd name="adj" fmla="val 16667"/>
            </a:avLst>
          </a:prstGeom>
          <a:solidFill>
            <a:srgbClr val="86d1e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Times New Roman"/>
              </a:rPr>
              <a:t>Голосово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39">
            <a:hlinkClick r:id="rId15" action="ppaction://hlinksldjump"/>
          </p:cNvPr>
          <p:cNvSpPr/>
          <p:nvPr/>
        </p:nvSpPr>
        <p:spPr>
          <a:xfrm>
            <a:off x="193680" y="5551560"/>
            <a:ext cx="1752480" cy="838080"/>
          </a:xfrm>
          <a:prstGeom prst="roundRect">
            <a:avLst>
              <a:gd name="adj" fmla="val 16667"/>
            </a:avLst>
          </a:prstGeom>
          <a:solidFill>
            <a:srgbClr val="86d1e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eece1"/>
                </a:solidFill>
                <a:latin typeface="Times New Roman"/>
              </a:rPr>
              <a:t>Артикуляционн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40"/>
          <p:cNvSpPr/>
          <p:nvPr/>
        </p:nvSpPr>
        <p:spPr>
          <a:xfrm>
            <a:off x="1946160" y="2884320"/>
            <a:ext cx="381240" cy="3733920"/>
          </a:xfrm>
          <a:custGeom>
            <a:avLst/>
            <a:gdLst>
              <a:gd name="textAreaLeft" fmla="*/ 0 w 381240"/>
              <a:gd name="textAreaRight" fmla="*/ 137520 w 381240"/>
              <a:gd name="textAreaTop" fmla="*/ 97200 h 3733920"/>
              <a:gd name="textAreaBottom" fmla="*/ 3636720 h 373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41">
            <a:hlinkClick r:id="rId16" action="ppaction://hlinksldjump"/>
          </p:cNvPr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ора больших полушар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14" descr="Картинка 122 из 43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611360"/>
            <a:ext cx="4800600" cy="44276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8769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ганизац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осуществление речевых рефлексов связана с деятельностью различных участков коры головного моз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сочная доля кор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является слухоречевой областью, которая воспринимает речевую информацию;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она Верник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поле 22); затылочные доли содержат центр зрения и способствует усвоению письменной речи. Развитие речи ребенка происходит благодаря зрительному восприятию ребенком артикуляции взрослы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15">
            <a:hlinkClick r:id="rId3" action="ppaction://hlinksldjump"/>
          </p:cNvPr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корковые цент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еспечивают регуляцию мышечного тонуса, экономичное расходование мышечной энергии; регулируют основные просодические компоненты звучной речи: темп, плавность, громкость, индивидуальный тембр, эмоциональную выразительность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триопаллидарн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истема включена в организацию произвольных движени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5">
            <a:hlinkClick r:id="rId1" action="ppaction://hlinksldjump"/>
          </p:cNvPr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водящие пути</a:t>
            </a:r>
            <a:br>
              <a:rPr sz="3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Центральный отдел речевой системы связан с периферическим речевым аппаратом проводящими нервными путями: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28240" y="190512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Times New Roman"/>
                <a:hlinkClick r:id="rId1" action="ppaction://hlinksldjump"/>
              </a:rPr>
              <a:t>Центробежны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рково-спиналь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рково-стволов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тикулоспиналь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броспиналь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рково-мосто-мозжечков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иноталамиче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ктоспиналь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ний продольный пуч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267080" y="1980720"/>
            <a:ext cx="472464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Times New Roman"/>
                <a:hlinkClick r:id="rId2" action="ppaction://hlinksldjump"/>
              </a:rPr>
              <a:t>Центростремительны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нглио-бульбо-таламиче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тля тройничного нер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ковая пет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иномозжечков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иноталамиче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AutoShape 7">
            <a:hlinkClick r:id="rId3" action="ppaction://hlinksldjump"/>
          </p:cNvPr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Центробежные пути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(нисходящие, двигательные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Центробежные нервные пути являются двигательными и проводят информацию из центров коры на рабочий орган. Главными из них являются: корково-спинальный, корково-стволовой, тектоспинальный путь, ретикулоспинальный, руброспинальный, корково-мосто-мозжечковый, задний продольный пуч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Иннервацию мышц артикуляционного аппарата (мышц языка, гортани, глотки) обеспечивает корково-стволовой путь. </a:t>
            </a:r>
            <a:r>
              <a:rPr b="1" lang="ru-RU" sz="2600" spc="-1" strike="noStrike">
                <a:solidFill>
                  <a:srgbClr val="898989"/>
                </a:solidFill>
                <a:latin typeface="Times New Roman"/>
              </a:rPr>
              <a:t>Корково-спинальный путь</a:t>
            </a:r>
            <a:r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 иннервирует мышцы верхних и нижних конечностей, шею, туловище, область таз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utoShape 5">
            <a:hlinkClick r:id="rId1" action="ppaction://hlinksldjump"/>
          </p:cNvPr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Центростремительные пути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восходящие, чувствительны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98989"/>
                </a:solidFill>
                <a:latin typeface="Times New Roman"/>
              </a:rPr>
              <a:t>Центростремительные пути начинаются в рецепторах нервной системы, в т.ч. костно-мышечной системы организма. Это спиноталамический, ганглио-бульбо-таламический, петля тройничного нерва, боковая петля, спиномозжечковый путь. Проприорецепторы приходят в действие при мышечных сокращениях, движениях сухожилий и суставов. Благодаря им контролируется вся мышечная деятельност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98989"/>
                </a:solidFill>
                <a:latin typeface="Times New Roman"/>
              </a:rPr>
              <a:t>Барорецепторы находятся в глотке и приходят в действие при изменении давления воздуха в глотке и мышечного давления, о чем информируют двигательные центры коры больших полушари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AutoShape 5">
            <a:hlinkClick r:id="rId1" action="ppaction://hlinksldjump"/>
          </p:cNvPr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родолговатый моз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152280" y="1447920"/>
            <a:ext cx="4419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ржит ядра черепно-мозговых нервов и проводящие пути. В составе имеет ретикулярную формацию, которая активизирует деятельность коры. Продолговатый мозг имеет центры, регулирующие сердечнососудистую деятельность, дыхание, пищеварение и другие структу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 – продолговатый моз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6" descr="Картинка 10 из 1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955880"/>
            <a:ext cx="4038480" cy="381960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7">
            <a:hlinkClick r:id="rId3" action="ppaction://hlinksldjump"/>
          </p:cNvPr>
          <p:cNvSpPr/>
          <p:nvPr/>
        </p:nvSpPr>
        <p:spPr>
          <a:xfrm>
            <a:off x="1523880" y="6553080"/>
            <a:ext cx="228600" cy="204840"/>
          </a:xfrm>
          <a:custGeom>
            <a:avLst/>
            <a:gdLst>
              <a:gd name="textAreaLeft" fmla="*/ 12960 w 228600"/>
              <a:gd name="textAreaRight" fmla="*/ 215640 w 228600"/>
              <a:gd name="textAreaTop" fmla="*/ 12960 h 204840"/>
              <a:gd name="textAreaBottom" fmla="*/ 191880 h 204840"/>
            </a:gdLst>
            <a:ahLst/>
            <a:rect l="textAreaLeft" t="textAreaTop" r="textAreaRight" b="textAreaBottom"/>
            <a:pathLst>
              <a:path w="24101" h="21600">
                <a:moveTo>
                  <a:pt x="0" y="0"/>
                </a:moveTo>
                <a:lnTo>
                  <a:pt x="24101" y="0"/>
                </a:lnTo>
                <a:lnTo>
                  <a:pt x="24101" y="21600"/>
                </a:lnTo>
                <a:lnTo>
                  <a:pt x="0" y="21600"/>
                </a:lnTo>
                <a:close/>
              </a:path>
              <a:path fill="lightenLess" w="24101" h="21600">
                <a:moveTo>
                  <a:pt x="0" y="0"/>
                </a:moveTo>
                <a:lnTo>
                  <a:pt x="24101" y="0"/>
                </a:lnTo>
                <a:lnTo>
                  <a:pt x="22701" y="1400"/>
                </a:lnTo>
                <a:lnTo>
                  <a:pt x="1400" y="1400"/>
                </a:lnTo>
                <a:close/>
              </a:path>
              <a:path fill="darken" w="24101" h="21600">
                <a:moveTo>
                  <a:pt x="24101" y="0"/>
                </a:moveTo>
                <a:lnTo>
                  <a:pt x="24101" y="21600"/>
                </a:lnTo>
                <a:lnTo>
                  <a:pt x="22701" y="20200"/>
                </a:lnTo>
                <a:lnTo>
                  <a:pt x="22701" y="1400"/>
                </a:lnTo>
                <a:close/>
              </a:path>
              <a:path fill="darkenLess" w="24101" h="21600">
                <a:moveTo>
                  <a:pt x="24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1" y="20200"/>
                </a:lnTo>
                <a:close/>
              </a:path>
              <a:path fill="lighten" w="24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1" h="21600">
                <a:moveTo>
                  <a:pt x="12051" y="3837"/>
                </a:moveTo>
                <a:lnTo>
                  <a:pt x="14627" y="6448"/>
                </a:ln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lnTo>
                  <a:pt x="19013" y="10800"/>
                </a:lnTo>
                <a:lnTo>
                  <a:pt x="17360" y="10800"/>
                </a:lnTo>
                <a:lnTo>
                  <a:pt x="17360" y="17989"/>
                </a:lnTo>
                <a:lnTo>
                  <a:pt x="6741" y="17989"/>
                </a:lnTo>
                <a:lnTo>
                  <a:pt x="6741" y="10800"/>
                </a:lnTo>
                <a:lnTo>
                  <a:pt x="5088" y="10800"/>
                </a:lnTo>
                <a:close/>
              </a:path>
              <a:path fill="darkenLess" w="24101" h="21600">
                <a:moveTo>
                  <a:pt x="14627" y="6448"/>
                </a:moveTo>
                <a:lnTo>
                  <a:pt x="14627" y="4707"/>
                </a:lnTo>
                <a:lnTo>
                  <a:pt x="16402" y="4707"/>
                </a:lnTo>
                <a:lnTo>
                  <a:pt x="16402" y="8224"/>
                </a:lnTo>
                <a:close/>
              </a:path>
              <a:path fill="darkenLess" w="24101" h="21600">
                <a:moveTo>
                  <a:pt x="11128" y="14299"/>
                </a:moveTo>
                <a:lnTo>
                  <a:pt x="12973" y="14299"/>
                </a:lnTo>
                <a:lnTo>
                  <a:pt x="12973" y="17989"/>
                </a:lnTo>
                <a:lnTo>
                  <a:pt x="17360" y="17989"/>
                </a:lnTo>
                <a:lnTo>
                  <a:pt x="17360" y="10800"/>
                </a:lnTo>
                <a:lnTo>
                  <a:pt x="6741" y="10800"/>
                </a:lnTo>
                <a:lnTo>
                  <a:pt x="6741" y="17989"/>
                </a:lnTo>
                <a:lnTo>
                  <a:pt x="111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20-11-23T21:35:47Z</dcterms:modified>
  <cp:revision>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